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336F-383C-4816-9817-466DB23E9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8911-D829-40F2-9978-23DC867591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have or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3A6C-9E7E-4985-9C5C-886D2F883A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just calculating mar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EED2-46BC-4C05-A161-09674FCD97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ing (Promotions), New sales incentives, product life cycle extension strategi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to suppliers, try to get supply costs down by getting different suppl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financial control, maybe looking at cost cen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D57E-C5D0-4B32-B536-49292910E0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FD5-5D62-4F19-B29A-A6DDA5BC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7D3-D003-4B7F-9A87-0139FB41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F70-33A8-4706-951E-5D75A448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AAA-FA56-4216-8018-9F8428B8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8291-A7C6-43ED-9347-4CDC9253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0E3E-7C65-46CE-9193-EED6C270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6646-0E25-49A2-AD0A-01215F58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7872-92D0-4D96-93CE-524043E9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D27A-1C63-4CF2-9FE2-48B316D6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717C-DB50-4CC8-9747-79419716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B711-A114-46B4-BC2A-421CF1BD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751-3148-47C2-B86B-77E66549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A6FF-B384-4D06-9DD0-4173C013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BA61-E2F3-45A4-AE69-A186D41F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BC6E-F980-4FB9-AC6C-53C3DAF2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CC80-F650-4BBD-9C42-AE9A9BFD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5941-1842-4651-895F-DA394931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5C252-4092-480B-9318-6A51C381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42C89-7DA7-46BE-ACC4-04C39944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0B38-87A1-47E5-8410-7686274F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F4B8-E377-4725-BB88-9C73ECCD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9B5B-0E5D-4256-859A-9BE867A7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36A-DA16-4E8B-BF1C-D4B0C3FF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7F51-1178-4543-A2EC-DACE1E51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5E12F-B1B2-4643-A7E3-441EBF6C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16096-96D1-42CF-8C5E-EACE036F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27A5-9F60-431C-81DC-D59008E5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0E863-5578-4C3B-B891-DF7BB932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5608C-D113-4D56-857F-83265570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9CEB9-63CD-4D71-9C6E-8AD74177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4F717-CDF1-499F-A325-90B08D41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A4A32-8114-4DFB-B53C-95CD6D1B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8880B-1FED-4BAA-800C-053353C9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926-6F8D-443E-BAC5-C305EC2E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9E5C1-CEE4-4273-995A-9E1CD49B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F767B-2C17-4C00-90A4-FBAB4F7F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27CC-D1DC-476C-AAAE-C6F267C4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EA27-1600-4C52-ABA9-6A35079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0CB96-1D82-421A-BA16-4B90FB18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294F9-73D9-4409-962F-FA4490DE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30862-5958-4211-A7E0-6B81C7C3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8849-56B2-4BAC-97FE-749E83C5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1FF89-B4E3-484F-99FB-07D9BDDA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BE8C3-A16E-4F32-ABE5-89E7EC02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B09-C436-48D7-92E3-A89BEF82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B9054-8D8E-4A7A-9BE9-E8CF94F4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99767-2904-462B-A19C-97578AF5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39AA1-5E14-46F1-ABF2-A2F9BFA8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D2CF1-75F0-416B-9C9D-084895B2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C4B8A-F1AE-4B3A-8417-094E5B40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8FAF7-D58C-4CA0-8E01-EF525B42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EFE86-0514-4042-9507-8721BC35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F0E98-EBD7-4E75-80E1-2AA85245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0BB08-C9C3-456E-A795-01F8E138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2EFC6-D00A-436C-82DB-CF466445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59B-3C5B-4D65-BB17-239BB385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699BC-7ADC-44E0-A15F-C341B727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A0358-9BE4-4D37-BA33-055D2B34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96BB8-73FB-4F47-B39A-D98DFB45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97419-6C17-4553-9A5F-A7021950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1ADD6-C516-42B8-A1C9-ACED4707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74E9F-3DBE-4DAF-90F5-1A838BE6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63F52-440A-411F-AF53-67036C59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E6AC5-DC7A-49E4-B623-5CB6B4BB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60132-AF0C-4458-8F4F-2EB986B4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1A16F-6816-4CF1-A173-F8EA6A03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3E9-7D69-46C8-8492-46DA4F80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EC9FB-3E01-4843-A555-8D9E8FF0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F09D1-0503-41EE-A323-E31D1FA9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9E754-5669-4146-87E3-78E5110E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4FD-CC13-4693-99E6-97D08EEF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4D2-7A5D-410E-B84B-2DEC8D9F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EB7C-32CE-4DE7-A293-1172E4949AC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C6E4-772D-4631-82CB-4B7BCD50FCB6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3855-B41F-4B35-ACA4-2FBDE44F3F9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4E01-2303-46A5-9999-6AB402A3B3CF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CD8C-1B7F-46AB-B920-D4FDA378198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D10D-7BD9-458A-B9E9-D7779A27F46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0" y="1523520"/>
            <a:ext cx="91440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91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NIT: 3.3 – Break-even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9196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derstand/practice break-even analysis &amp; margin of saf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-763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d4d2d0"/>
                </a:solidFill>
                <a:latin typeface="Arial Rounded MT Bold"/>
              </a:rPr>
              <a:t>IB Business Managem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Break-Even Analysis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0" y="808200"/>
            <a:ext cx="91440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Arial Rounded MT Bold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Jeans retailer has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fixed costs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of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$3,500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per mon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Each pair of jeans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sells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for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$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$10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in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variable costs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er pair of je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What is the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break-even point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Franklin Gothic Book"/>
              </a:rPr>
              <a:t>Calculating Break-Even Point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0" y="50328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Arial Rounded MT Bold"/>
              </a:rPr>
              <a:t>Method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dentify where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total costs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equal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total revenue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on a break-even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e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break-even point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s the position where the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total cost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line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 intersects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the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total revenue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line (TC=T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6" descr="http://www.bized.co.uk/sites/bized/files/images/virtual/bank/break_even2.gif"/>
          <p:cNvPicPr/>
          <p:nvPr/>
        </p:nvPicPr>
        <p:blipFill>
          <a:blip r:embed="rId1"/>
          <a:srcRect l="0" t="8330" r="0" b="0"/>
          <a:stretch/>
        </p:blipFill>
        <p:spPr>
          <a:xfrm>
            <a:off x="2281320" y="4189320"/>
            <a:ext cx="39672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Franklin Gothic Book"/>
              </a:rPr>
              <a:t>Calculating Break-Even Point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50328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Arial Rounded MT Bold"/>
              </a:rPr>
              <a:t>Method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Using the TC = TR ru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FC + TVC = Price x Quant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3500 + 10(Q) = 30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3500 = 20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175 = Q (pairs of jean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Franklin Gothic Book"/>
              </a:rPr>
              <a:t>Calculating Break-Even Point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0" y="457200"/>
            <a:ext cx="914400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Arial Rounded MT Bold"/>
              </a:rPr>
              <a:t>Method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Unit contribution is  the difference between a product</a:t>
            </a:r>
            <a:r>
              <a:rPr b="0" lang="ja-JP" sz="3600" spc="-1" strike="noStrike">
                <a:solidFill>
                  <a:srgbClr val="ffffff"/>
                </a:solidFill>
                <a:latin typeface="Arial Rounded MT Bold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 price and variable c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ontribution = Price – V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reak-Even Point = TFC / Unit Con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Rounded MT Bold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99"/>
                </a:solidFill>
                <a:latin typeface="Arial Rounded MT Bold"/>
                <a:ea typeface="ＭＳ Ｐゴシック"/>
              </a:rPr>
              <a:t>$3500</a:t>
            </a:r>
            <a:r>
              <a:rPr b="0" lang="en-US" sz="4400" spc="-1" strike="noStrike">
                <a:solidFill>
                  <a:srgbClr val="ffff99"/>
                </a:solidFill>
                <a:latin typeface="Arial Rounded MT Bold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99"/>
                </a:solidFill>
                <a:latin typeface="Arial Rounded MT Bold"/>
                <a:ea typeface="ＭＳ Ｐゴシック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Rounded MT Bold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99"/>
                </a:solidFill>
                <a:latin typeface="Arial Rounded MT Bold"/>
                <a:ea typeface="ＭＳ Ｐゴシック"/>
              </a:rPr>
              <a:t>$30-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Straight Connector 3"/>
          <p:cNvSpPr/>
          <p:nvPr/>
        </p:nvSpPr>
        <p:spPr>
          <a:xfrm flipH="1">
            <a:off x="2133360" y="4876920"/>
            <a:ext cx="1981080" cy="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2514600" y="3932280"/>
            <a:ext cx="50292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1718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Rounded MT Bold"/>
                <a:ea typeface="ＭＳ Ｐゴシック"/>
              </a:rPr>
              <a:t>= 175 pai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Franklin Gothic Book"/>
              </a:rPr>
              <a:t>Break-Even Example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0" y="579600"/>
            <a:ext cx="91440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Use the unit contribution method to calculate the break-even quantity for a firm that has the following financial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FC = $200,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AVC = $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rice = $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 - AVC = unit contrib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Break-even = fixed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unit contrib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Straight Connector 4"/>
          <p:cNvSpPr/>
          <p:nvPr/>
        </p:nvSpPr>
        <p:spPr>
          <a:xfrm>
            <a:off x="2666880" y="5638680"/>
            <a:ext cx="3962520" cy="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lculate this BEQ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high end kite maker has fixed costs of 25,500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e has a Variable Cost of $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e is selling the kites for $7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break-even quantit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value of the total revenue at the break-even quant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value of total costs at the break-even quant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Franklin Gothic Book"/>
              </a:rPr>
              <a:t>Margin of Safety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0" y="579600"/>
            <a:ext cx="91440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Measures </a:t>
            </a:r>
            <a:r>
              <a:rPr b="1" lang="en-US" sz="3400" spc="-1" strike="noStrike">
                <a:solidFill>
                  <a:srgbClr val="ffff99"/>
                </a:solidFill>
                <a:latin typeface="Arial Rounded MT Bold"/>
              </a:rPr>
              <a:t>difference between </a:t>
            </a: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firm</a:t>
            </a:r>
            <a:r>
              <a:rPr b="0" lang="ja-JP" sz="3400" spc="-1" strike="noStrike">
                <a:solidFill>
                  <a:srgbClr val="ffffff"/>
                </a:solidFill>
                <a:latin typeface="Arial Rounded MT Bold"/>
              </a:rPr>
              <a:t>’</a:t>
            </a: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s </a:t>
            </a:r>
            <a:r>
              <a:rPr b="1" lang="en-US" sz="3400" spc="-1" strike="noStrike">
                <a:solidFill>
                  <a:srgbClr val="ffff99"/>
                </a:solidFill>
                <a:latin typeface="Arial Rounded MT Bold"/>
              </a:rPr>
              <a:t>current sales quantity </a:t>
            </a: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&amp; </a:t>
            </a:r>
            <a:r>
              <a:rPr b="1" lang="en-US" sz="3400" spc="-1" strike="noStrike">
                <a:solidFill>
                  <a:srgbClr val="ffff99"/>
                </a:solidFill>
                <a:latin typeface="Arial Rounded MT Bold"/>
              </a:rPr>
              <a:t>break-even poi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Positive margin means that firm is making a profi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Always shown in units, not dollars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Arial Rounded MT Bold"/>
              </a:rPr>
              <a:t>Safety margin = level of demand – breakeven qty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2" descr="http://www.bized.co.uk/sites/bized/files/images/virtual/usbank/margin_safety.gif"/>
          <p:cNvPicPr/>
          <p:nvPr/>
        </p:nvPicPr>
        <p:blipFill>
          <a:blip r:embed="rId1"/>
          <a:stretch/>
        </p:blipFill>
        <p:spPr>
          <a:xfrm>
            <a:off x="2378160" y="3970440"/>
            <a:ext cx="409896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Franklin Gothic Book"/>
              </a:rPr>
              <a:t>Margin of Safety Example 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808200"/>
            <a:ext cx="91440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Demand for jeans is 280 pairs per month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Break-even point is 175 pairs per month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Safety margin is 105 units (280-175 = 105)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This means the business can sell 105 fewer pairs of jeans before losing mone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S as a percentage of BEQ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easier to compare the 2 numbers if it is written as a percentage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BEQ/Level of demand) x 1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105 ÷ 175) x 100 = 6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70c0"/>
                </a:solidFill>
                <a:latin typeface="Franklin Gothic Book"/>
              </a:rPr>
              <a:t>Constructing a Break-even Char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 to follow when constructing BE cha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/label TFC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/label TC line. Q = 0; TC start at 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/label TR line. Q = 0; TR starts at 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axis is labeled a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-axis is labeled a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, Revenue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Fixed or Variable?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179856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R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W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ala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nsur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om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Util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Breaking Even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0" y="65556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Business can be in one of the following financial situa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Rounded MT Bold"/>
              </a:rPr>
              <a:t>Loss: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costs exceeds reve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Rounded MT Bold"/>
              </a:rPr>
              <a:t>Break-Even: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costs equal reve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Rounded MT Bold"/>
              </a:rPr>
              <a:t>Profit: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revenue exceeds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http://www.bized.co.uk/sites/bized/files/images/virtual/bank/break_even2.gif"/>
          <p:cNvPicPr/>
          <p:nvPr/>
        </p:nvPicPr>
        <p:blipFill>
          <a:blip r:embed="rId1"/>
          <a:srcRect l="0" t="8330" r="0" b="0"/>
          <a:stretch/>
        </p:blipFill>
        <p:spPr>
          <a:xfrm>
            <a:off x="2097000" y="3962520"/>
            <a:ext cx="4303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Breaking Even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65556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Rounded MT Bold"/>
              </a:rPr>
              <a:t>Break-even point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exists where a business makes neither profit nor l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is occurs at the level of output where </a:t>
            </a:r>
            <a:r>
              <a:rPr b="1" lang="en-US" sz="3600" spc="-1" strike="noStrike">
                <a:solidFill>
                  <a:srgbClr val="ffff99"/>
                </a:solidFill>
                <a:latin typeface="Arial Rounded MT Bold"/>
              </a:rPr>
              <a:t>total costs equal total reve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ypically a goal of new fi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http://www.bized.co.uk/sites/bized/files/images/virtual/bank/break_even2.gif"/>
          <p:cNvPicPr/>
          <p:nvPr/>
        </p:nvPicPr>
        <p:blipFill>
          <a:blip r:embed="rId1"/>
          <a:srcRect l="0" t="8330" r="0" b="0"/>
          <a:stretch/>
        </p:blipFill>
        <p:spPr>
          <a:xfrm>
            <a:off x="2281320" y="3809880"/>
            <a:ext cx="4530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Contribution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purpose of calculating contributio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Any product w/ a positive contribution                will help pay some of the FC of th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on per unit = P – AV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ays to improve profi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crease Sales Reven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 you do th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rease Variable Cost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 you do th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rease Fixed Co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 you do th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Franklin Gothic Book"/>
              </a:rPr>
              <a:t>Meaning of Break-Even Point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0" y="50328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otal Costs = Total Revenue when output reaches the break-even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Any sales above the break-even quantity will generate a prof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ales below the break-even level will yield a l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5" descr="http://utdallas.edu/~vxc054000/ba3365/img/fig8.jpg"/>
          <p:cNvPicPr/>
          <p:nvPr/>
        </p:nvPicPr>
        <p:blipFill>
          <a:blip r:embed="rId1"/>
          <a:stretch/>
        </p:blipFill>
        <p:spPr>
          <a:xfrm>
            <a:off x="3429000" y="3722760"/>
            <a:ext cx="44956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Break-even Analysis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usiness can only survive in the long run if revenue &gt;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firms especially want to determine the level of sales needed to generate a prof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Break-Even Analysis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0" y="118908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wo </a:t>
            </a:r>
            <a:r>
              <a:rPr b="1" lang="en-US" sz="3600" spc="-1" strike="noStrike">
                <a:solidFill>
                  <a:srgbClr val="ffff99"/>
                </a:solidFill>
                <a:latin typeface="Arial Rounded MT Bold"/>
              </a:rPr>
              <a:t>purposes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for conducting a break-even analysis, which helps determin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f its financially worthwhile to produce a particular good or service (such as introducing a new produc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Amount of profit that business is likely to earn if things go according to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21:29:44Z</dcterms:created>
  <dc:creator>Spencer Griffith</dc:creator>
  <dc:description/>
  <dc:language>en-US</dc:language>
  <cp:lastModifiedBy>Amy Jacobs</cp:lastModifiedBy>
  <dcterms:modified xsi:type="dcterms:W3CDTF">2016-09-20T01:29:14Z</dcterms:modified>
  <cp:revision>139</cp:revision>
  <dc:subject/>
  <dc:title>Slide 1</dc:title>
</cp:coreProperties>
</file>